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91833"/>
        <c:axId val="10822412"/>
      </c:barChart>
      <c:catAx>
        <c:axId val="812918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22412"/>
        <c:crosses val="autoZero"/>
        <c:auto val="1"/>
        <c:lblAlgn val="ctr"/>
        <c:lblOffset val="100"/>
        <c:noMultiLvlLbl val="0"/>
      </c:catAx>
      <c:valAx>
        <c:axId val="10822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918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9A4-A122-4D8D-9A0A-7FCD8D21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7C50-93E5-4510-9DCA-AB88619C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14F9-6E7B-46E2-B6D6-F75FCC90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4478-1234-4A60-8CE8-26EC400A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A7F-995A-4914-96EE-A20C0963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AC0-5484-44C7-A36E-50759842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961-1741-47B8-93A0-E9920D2A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B1BE-5532-4A76-9999-15C1B91A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FDA-99CB-4F3D-AFF8-78C032FF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FF51-5394-499B-84DE-A73CD7E6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A74-E9DA-423D-A8B4-2B601AC8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50B-46D2-4286-9F58-7D321BE0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D3F36-DC30-407A-B7BB-7559EA8828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